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D6CA-7B3D-4383-9574-055E1B01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BB7E-DB22-4A76-AC25-92179BCD1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E6C-32CF-425F-ACC3-867A4A49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4BB-D086-47BC-828B-74764863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BB7-335F-494B-8137-FE07D98F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BCA-CA2E-4BDB-8A37-782F5FE1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002-FCD4-47C1-8F30-2A6FC6CE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852-74A5-4E83-8675-340CC0D9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F9A-170A-4F52-8827-0F0ED1DD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BF1-BA46-49B6-8FF1-A600D241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6DA-8F83-40B4-8C3A-BE271CE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40C-CDD3-4E1E-9730-23D4723D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E80-E406-4EB9-8796-D71E0A5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1B3-8467-4C7F-9B39-7CE3E58B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A7F-46A7-4F7A-B9F6-E93D01740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743200" y="2279520"/>
            <a:ext cx="365760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6:31Z</dcterms:modified>
  <cp:revision>118</cp:revision>
  <dc:subject/>
  <dc:title>Museum of World Stuff</dc:title>
</cp:coreProperties>
</file>